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media/image12.wmf" ContentType="image/x-wmf"/>
  <Override PartName="/ppt/media/image1.gif" ContentType="image/gif"/>
  <Override PartName="/ppt/media/image7.jpeg" ContentType="image/jpeg"/>
  <Override PartName="/ppt/media/image9.jpeg" ContentType="image/jpeg"/>
  <Override PartName="/ppt/media/image11.wmf" ContentType="image/x-wmf"/>
  <Override PartName="/ppt/media/image13.wmf" ContentType="image/x-wmf"/>
  <Override PartName="/ppt/media/image10.jpeg" ContentType="image/jpeg"/>
  <Override PartName="/ppt/media/image8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866-DC59-4B17-A8C0-976B8BE8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945E-1474-4FC7-B62E-C266B7E5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11C-6C51-48F8-B27E-794D4963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849F-2965-4B6E-870A-BDB751C9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C023-4E31-4E9E-BA2C-1083FED2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65A-791A-4DA7-87B5-49B92FC3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83B-F51E-4008-BE85-B1D0ED27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3D9-FD4F-49DA-B6A0-CC681141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586-E528-4004-9835-3FDBA809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84D5-9BDF-4EB9-931A-F4F830FF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9B3-3F4E-4638-9664-BDB58623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958-AA76-4664-A6C0-89012C99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3399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99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3399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3436-2864-4F7C-AE70-990843050E24}" type="slidenum">
              <a:rPr b="0" lang="cs-CZ" sz="1400" spc="-1" strike="noStrike">
                <a:solidFill>
                  <a:srgbClr val="333399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040" y="1553040"/>
            <a:ext cx="83059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CopprplGoth Bd BT"/>
                <a:ea typeface="Times New Roman"/>
              </a:rPr>
              <a:t>Study of Electrochemical Processes for Separation of the Actinides and Lanthanides in Molten Fluoride Media</a:t>
            </a:r>
            <a:r>
              <a:rPr b="1" lang="cs-CZ" sz="4000" spc="-1" strike="noStrike">
                <a:solidFill>
                  <a:srgbClr val="cc0000"/>
                </a:solidFill>
                <a:latin typeface="CopprplGoth Bd BT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27200" y="4438800"/>
            <a:ext cx="7689600" cy="10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CopprplGoth Bd BT"/>
              </a:rPr>
              <a:t>R. </a:t>
            </a:r>
            <a:r>
              <a:rPr b="1" lang="en-US" sz="2800" spc="-1" strike="noStrike">
                <a:solidFill>
                  <a:srgbClr val="333399"/>
                </a:solidFill>
                <a:latin typeface="CopprplGoth Bd BT"/>
              </a:rPr>
              <a:t>Tulackova (</a:t>
            </a:r>
            <a:r>
              <a:rPr b="1" lang="cs-CZ" sz="2800" spc="-1" strike="noStrike">
                <a:solidFill>
                  <a:srgbClr val="333399"/>
                </a:solidFill>
                <a:latin typeface="CopprplGoth Bd BT"/>
              </a:rPr>
              <a:t>Zvejskova</a:t>
            </a:r>
            <a:r>
              <a:rPr b="1" lang="en-US" sz="2800" spc="-1" strike="noStrike">
                <a:solidFill>
                  <a:srgbClr val="333399"/>
                </a:solidFill>
                <a:latin typeface="CopprplGoth Bd BT"/>
              </a:rPr>
              <a:t>)</a:t>
            </a:r>
            <a:r>
              <a:rPr b="1" lang="cs-CZ" sz="2800" spc="-1" strike="noStrike">
                <a:solidFill>
                  <a:srgbClr val="333399"/>
                </a:solidFill>
                <a:latin typeface="CopprplGoth Bd BT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CopprplGoth Bd BT"/>
              </a:rPr>
              <a:t>K. Chuchvalcova Bimova, P. Soucek, F. Lis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81400" y="674640"/>
            <a:ext cx="781200" cy="849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76200" y="5738760"/>
            <a:ext cx="659160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pprplGoth Bd BT"/>
              </a:rPr>
              <a:t>Nuclear Research Institute </a:t>
            </a:r>
            <a:r>
              <a:rPr b="1" lang="cs-CZ" sz="2600" spc="-1" strike="noStrike">
                <a:solidFill>
                  <a:srgbClr val="000000"/>
                </a:solidFill>
                <a:latin typeface="CopprplGoth Bd BT"/>
              </a:rPr>
              <a:t>R</a:t>
            </a:r>
            <a:r>
              <a:rPr b="1" lang="en-GB" sz="2600" spc="-1" strike="noStrike">
                <a:solidFill>
                  <a:srgbClr val="000000"/>
                </a:solidFill>
                <a:latin typeface="CopprplGoth Bd BT"/>
              </a:rPr>
              <a:t>e</a:t>
            </a:r>
            <a:r>
              <a:rPr b="1" lang="cs-CZ" sz="2600" spc="-1" strike="noStrike">
                <a:solidFill>
                  <a:srgbClr val="000000"/>
                </a:solidFill>
                <a:latin typeface="CopprplGoth Bd BT"/>
              </a:rPr>
              <a:t>z</a:t>
            </a:r>
            <a:r>
              <a:rPr b="1" lang="en-GB" sz="2600" spc="-1" strike="noStrike">
                <a:solidFill>
                  <a:srgbClr val="000000"/>
                </a:solidFill>
                <a:latin typeface="CopprplGoth Bd BT"/>
              </a:rPr>
              <a:t> pl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pprplGoth Bd BT"/>
              </a:rPr>
              <a:t>Czech Republ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864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Myriad Web"/>
              </a:rPr>
              <a:t>Main r</a:t>
            </a:r>
            <a:r>
              <a:rPr b="1" lang="en-GB" sz="3600" spc="-1" strike="noStrike">
                <a:solidFill>
                  <a:srgbClr val="cc0000"/>
                </a:solidFill>
                <a:latin typeface="Myriad Web"/>
              </a:rPr>
              <a:t>esults </a:t>
            </a:r>
            <a:r>
              <a:rPr b="1" lang="cs-CZ" sz="3600" spc="-1" strike="noStrike">
                <a:solidFill>
                  <a:srgbClr val="cc0000"/>
                </a:solidFill>
                <a:latin typeface="Myriad Web"/>
              </a:rPr>
              <a:t>of electrochemical measurement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99960" y="1801800"/>
          <a:ext cx="8362800" cy="4324320"/>
        </p:xfrm>
        <a:graphic>
          <a:graphicData uri="http://schemas.openxmlformats.org/drawingml/2006/table">
            <a:tbl>
              <a:tblPr/>
              <a:tblGrid>
                <a:gridCol w="1785960"/>
                <a:gridCol w="3265560"/>
                <a:gridCol w="33112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FLIN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  <a:ea typeface="Times New Roman"/>
                        </a:rPr>
                        <a:t>E [V] vs. Ni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/N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Myriad Web"/>
                        </a:rPr>
                        <a:t>2+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 in FLIN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LiF – CaF</a:t>
                      </a:r>
                      <a:r>
                        <a:rPr b="1" lang="en-GB" sz="2000" spc="-1" strike="noStrike" baseline="-25000">
                          <a:solidFill>
                            <a:srgbClr val="000000"/>
                          </a:solidFill>
                          <a:latin typeface="Myriad Web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  <a:ea typeface="Times New Roman"/>
                        </a:rPr>
                        <a:t>E [V] vs. Ni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/N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Myriad Web"/>
                        </a:rPr>
                        <a:t>2+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 in LiF-CaF</a:t>
                      </a:r>
                      <a:r>
                        <a:rPr b="0" lang="en-GB" sz="2000" spc="-1" strike="noStrike" baseline="-25000">
                          <a:solidFill>
                            <a:srgbClr val="000000"/>
                          </a:solidFill>
                          <a:latin typeface="Myriad Web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Cathodic lim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-2.05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-2.30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Uranium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Two-step reaction 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 –1.20 and –1.75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Two-step re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–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1.40 and –1.85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Thorium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Two-step reaction 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 –0.70 and –2.00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f5f5f"/>
                          </a:solidFill>
                          <a:latin typeface="Myriad Web"/>
                        </a:rPr>
                        <a:t>not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Neodymium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Two-step reaction 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 –1.00 and &lt; –2.05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One-step reaction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–2.00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Gadolinium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Two-step reaction 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 –1.01 and &lt; –2.05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One-step reaction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–2.10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Europium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Two-step reaction 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 –0.75 and &lt; –1.95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One-step reaction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&lt; –2.30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Myriad Web"/>
              </a:rPr>
              <a:t>Evaluation (1)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571680" y="10666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Myriad Web"/>
              </a:rPr>
              <a:t>The </a:t>
            </a:r>
            <a:r>
              <a:rPr b="0" lang="cs-CZ" sz="2200" spc="-1" strike="noStrike">
                <a:solidFill>
                  <a:srgbClr val="000000"/>
                </a:solidFill>
                <a:latin typeface="Myriad Web"/>
              </a:rPr>
              <a:t>results show the </a:t>
            </a:r>
            <a:r>
              <a:rPr b="0" lang="en-GB" sz="2200" spc="-1" strike="noStrike">
                <a:solidFill>
                  <a:srgbClr val="000000"/>
                </a:solidFill>
                <a:latin typeface="Myriad Web"/>
              </a:rPr>
              <a:t>following </a:t>
            </a:r>
            <a:r>
              <a:rPr b="0" lang="cs-CZ" sz="2200" spc="-1" strike="noStrike">
                <a:solidFill>
                  <a:srgbClr val="000000"/>
                </a:solidFill>
                <a:latin typeface="Myriad Web"/>
              </a:rPr>
              <a:t>thermodynamically feasible </a:t>
            </a:r>
            <a:r>
              <a:rPr b="0" lang="en-GB" sz="2200" spc="-1" strike="noStrike">
                <a:solidFill>
                  <a:srgbClr val="000000"/>
                </a:solidFill>
                <a:latin typeface="Myriad Web"/>
              </a:rPr>
              <a:t>separation possibilities</a:t>
            </a:r>
            <a:r>
              <a:rPr b="0" lang="cs-CZ" sz="2200" spc="-1" strike="noStrike">
                <a:solidFill>
                  <a:srgbClr val="000000"/>
                </a:solidFill>
                <a:latin typeface="Myriad Web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03440" y="1981080"/>
          <a:ext cx="7753320" cy="2280960"/>
        </p:xfrm>
        <a:graphic>
          <a:graphicData uri="http://schemas.openxmlformats.org/drawingml/2006/table">
            <a:tbl>
              <a:tblPr/>
              <a:tblGrid>
                <a:gridCol w="1797480"/>
                <a:gridCol w="1901520"/>
                <a:gridCol w="40543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Separ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Non-separ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In FLINA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U / 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U / G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U / 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Th / Nd, Gd, Eu </a:t>
                      </a:r>
                      <a:br>
                        <a:rPr sz="2200"/>
                      </a:b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U / E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Lanthanides among each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In LiF-CaF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Myriad Web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U / Gd</a:t>
                      </a:r>
                      <a:br>
                        <a:rPr sz="2200"/>
                      </a:b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U / Eu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 (?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U / 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Lanthanides among each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237960" y="4518360"/>
            <a:ext cx="8668080" cy="914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Myriad Web"/>
              </a:rPr>
              <a:t>A</a:t>
            </a:r>
            <a:r>
              <a:rPr b="1" lang="en-GB" sz="2400" spc="-1" strike="noStrike">
                <a:solidFill>
                  <a:srgbClr val="cc0000"/>
                </a:solidFill>
                <a:latin typeface="Myriad Web"/>
              </a:rPr>
              <a:t>CTINIDES </a:t>
            </a:r>
            <a:r>
              <a:rPr b="1" lang="cs-CZ" sz="2400" spc="-1" strike="noStrike">
                <a:solidFill>
                  <a:srgbClr val="cc0000"/>
                </a:solidFill>
                <a:latin typeface="Myriad Web"/>
              </a:rPr>
              <a:t>ARE LESS ELECTROCHEMICALLY STABLE THAN LANTHANIDES IN BOTH CARRIER ME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55022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4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Myriad Web"/>
              </a:rPr>
              <a:t>Majority of An will be removed prior than Ln (except e.g. Th</a:t>
            </a:r>
            <a:r>
              <a:rPr b="1" lang="en-GB" sz="2200" spc="-1" strike="noStrike">
                <a:solidFill>
                  <a:srgbClr val="000000"/>
                </a:solidFill>
                <a:latin typeface="Myriad Web"/>
              </a:rPr>
              <a:t>/</a:t>
            </a:r>
            <a:r>
              <a:rPr b="1" lang="cs-CZ" sz="2400" spc="-1" strike="noStrike">
                <a:solidFill>
                  <a:srgbClr val="000000"/>
                </a:solidFill>
                <a:latin typeface="Myriad Web"/>
              </a:rPr>
              <a:t>E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52280" y="1295280"/>
            <a:ext cx="883944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Myriad Web"/>
              </a:rPr>
              <a:t>For accomplishment of MS</a:t>
            </a:r>
            <a:r>
              <a:rPr b="1" lang="cs-CZ" sz="2400" spc="-1" strike="noStrike">
                <a:solidFill>
                  <a:srgbClr val="cc0000"/>
                </a:solidFill>
                <a:latin typeface="Myriad Web"/>
              </a:rPr>
              <a:t>T</a:t>
            </a:r>
            <a:r>
              <a:rPr b="1" lang="en-GB" sz="2400" spc="-1" strike="noStrike">
                <a:solidFill>
                  <a:srgbClr val="cc0000"/>
                </a:solidFill>
                <a:latin typeface="Myriad Web"/>
              </a:rPr>
              <a:t>R fuel cycle requirements, implementation of another </a:t>
            </a:r>
            <a:r>
              <a:rPr b="1" lang="cs-CZ" sz="2400" spc="-1" strike="noStrike">
                <a:solidFill>
                  <a:srgbClr val="cc0000"/>
                </a:solidFill>
                <a:latin typeface="Myriad Web"/>
              </a:rPr>
              <a:t>pyrochemical </a:t>
            </a:r>
            <a:r>
              <a:rPr b="1" lang="en-GB" sz="2400" spc="-1" strike="noStrike">
                <a:solidFill>
                  <a:srgbClr val="cc0000"/>
                </a:solidFill>
                <a:latin typeface="Myriad Web"/>
              </a:rPr>
              <a:t>separation methods </a:t>
            </a:r>
            <a:r>
              <a:rPr b="1" lang="cs-CZ" sz="2400" spc="-1" strike="noStrike">
                <a:solidFill>
                  <a:srgbClr val="cc0000"/>
                </a:solidFill>
                <a:latin typeface="Myriad Web"/>
              </a:rPr>
              <a:t>will be</a:t>
            </a:r>
            <a:r>
              <a:rPr b="1" lang="en-GB" sz="2400" spc="-1" strike="noStrike">
                <a:solidFill>
                  <a:srgbClr val="cc0000"/>
                </a:solidFill>
                <a:latin typeface="Myriad Web"/>
              </a:rPr>
              <a:t>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yriad Web"/>
              </a:rPr>
              <a:t>Possible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Myriad Web"/>
              </a:rPr>
              <a:t>Reductive extraction from molten fluoride salt into molten 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7680">
              <a:lnSpc>
                <a:spcPct val="100000"/>
              </a:lnSpc>
              <a:buClr>
                <a:srgbClr val="000000"/>
              </a:buClr>
              <a:buFont typeface="Myriad Web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Group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 selective method for removal of both A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’s and L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’s from the melt in reduced form dissolved in liquid metallic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Myriad Web"/>
              </a:rPr>
              <a:t>Anodic dissolution of reduced metals and their electrotransport to solid or liquid ca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7680">
              <a:lnSpc>
                <a:spcPct val="100000"/>
              </a:lnSpc>
              <a:buClr>
                <a:srgbClr val="000000"/>
              </a:buClr>
              <a:buFont typeface="Myriad Web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Group selective method 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usable 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for prior removal of 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Ln 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from mixture of reduced L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’s + A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Myriad Web"/>
              </a:rPr>
              <a:t>Evaluation (2)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Myriad Web"/>
              </a:rPr>
              <a:t>Proposed scheme of MSTR Fuel Cycle: Back-end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"/>
          <p:cNvSpPr/>
          <p:nvPr/>
        </p:nvSpPr>
        <p:spPr>
          <a:xfrm>
            <a:off x="3282840" y="3765600"/>
            <a:ext cx="2443320" cy="91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06600" y="3755880"/>
            <a:ext cx="2476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Multi-s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Myriad Web"/>
              </a:rPr>
              <a:t>Electroseparation:</a:t>
            </a:r>
            <a:br>
              <a:rPr sz="1800"/>
            </a:br>
            <a:r>
              <a:rPr b="1" lang="en-GB" sz="1800" spc="-1" strike="noStrike">
                <a:solidFill>
                  <a:srgbClr val="333399"/>
                </a:solidFill>
                <a:latin typeface="Myriad Web"/>
              </a:rPr>
              <a:t>Anodic dis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6600" y="1854360"/>
            <a:ext cx="228312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LiF - BeF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Myriad Web"/>
              </a:rPr>
              <a:t>2</a:t>
            </a: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 - NaF </a:t>
            </a:r>
            <a:r>
              <a:rPr b="0" lang="cs-CZ" sz="1800" spc="-1" strike="noStrike">
                <a:solidFill>
                  <a:srgbClr val="333399"/>
                </a:solidFill>
                <a:latin typeface="Myriad Web"/>
              </a:rPr>
              <a:t>+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L</a:t>
            </a:r>
            <a:r>
              <a:rPr b="0" lang="cs-CZ" sz="1800" spc="-1" strike="noStrike">
                <a:solidFill>
                  <a:srgbClr val="333399"/>
                </a:solidFill>
                <a:latin typeface="Myriad Web"/>
              </a:rPr>
              <a:t>n</a:t>
            </a: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F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Myriad Web"/>
              </a:rPr>
              <a:t>x</a:t>
            </a: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 + AnF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Myriad Web"/>
              </a:rPr>
              <a:t>x</a:t>
            </a: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 + FP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Myriad Web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35280" y="5705640"/>
            <a:ext cx="114948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24120" y="5751360"/>
            <a:ext cx="11494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Myriad Web"/>
              </a:rPr>
              <a:t>Wa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19760" y="3672000"/>
            <a:ext cx="1654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M (l) +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45320" y="1798560"/>
            <a:ext cx="29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Myriad Web"/>
              </a:rPr>
              <a:t>Reducing agent</a:t>
            </a: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 (L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34160" y="2270160"/>
            <a:ext cx="298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Myriad Web"/>
              </a:rPr>
              <a:t>Molten Metal </a:t>
            </a: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(</a:t>
            </a:r>
            <a:r>
              <a:rPr b="0" lang="cs-CZ" sz="1800" spc="-1" strike="noStrike">
                <a:solidFill>
                  <a:srgbClr val="333399"/>
                </a:solidFill>
                <a:latin typeface="Myriad Web"/>
              </a:rPr>
              <a:t>M = </a:t>
            </a: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Cd, B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95480" y="3017880"/>
            <a:ext cx="2373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LiF - BeF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Myriad Web"/>
              </a:rPr>
              <a:t>2</a:t>
            </a: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 - NaF + </a:t>
            </a:r>
            <a:br>
              <a:rPr sz="1800"/>
            </a:b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non-reduced mat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2217600"/>
            <a:ext cx="2076480" cy="324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011320"/>
            <a:ext cx="1838160" cy="91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2219400"/>
            <a:ext cx="18381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Myriad Web"/>
              </a:rPr>
              <a:t>MST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51160" y="2049480"/>
            <a:ext cx="1594080" cy="91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065320"/>
            <a:ext cx="16714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Multi-s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Myriad Web"/>
              </a:rPr>
              <a:t>Salt / Metal Ex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773320" y="2198520"/>
            <a:ext cx="2233800" cy="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84760" y="2979720"/>
            <a:ext cx="0" cy="78588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95920" y="3030480"/>
            <a:ext cx="13986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M (l) + </a:t>
            </a:r>
            <a:r>
              <a:rPr b="1" lang="en-GB" sz="1800" spc="-1" strike="noStrike">
                <a:solidFill>
                  <a:srgbClr val="333399"/>
                </a:solidFill>
                <a:latin typeface="Myriad Web"/>
              </a:rPr>
              <a:t>An</a:t>
            </a:r>
            <a:r>
              <a:rPr b="1" lang="cs-CZ" sz="1800" spc="-1" strike="noStrike">
                <a:solidFill>
                  <a:srgbClr val="333399"/>
                </a:solidFill>
                <a:latin typeface="Myriad Web"/>
              </a:rPr>
              <a:t>, Ln </a:t>
            </a:r>
            <a:r>
              <a:rPr b="1" lang="en-GB" sz="1800" spc="-1" strike="noStrike">
                <a:solidFill>
                  <a:srgbClr val="333399"/>
                </a:solidFill>
                <a:latin typeface="Myriad Web"/>
              </a:rPr>
              <a:t>+ </a:t>
            </a: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751360" y="2682720"/>
            <a:ext cx="1533600" cy="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37320" y="4027320"/>
            <a:ext cx="153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969920" y="4032360"/>
            <a:ext cx="1324080" cy="468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44840" y="3675240"/>
            <a:ext cx="568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Myriad Web"/>
              </a:rPr>
              <a:t>An</a:t>
            </a: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738760" y="4441680"/>
            <a:ext cx="1766880" cy="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94480" y="4076640"/>
            <a:ext cx="192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Fluoride m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29280" y="468468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29200" y="4732200"/>
            <a:ext cx="17510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Fluoride m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+ impu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505640" y="4430520"/>
            <a:ext cx="0" cy="91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21000" y="4686480"/>
            <a:ext cx="0" cy="99828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4983120"/>
            <a:ext cx="914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Myriad Web"/>
              </a:rPr>
              <a:t>Ln</a:t>
            </a:r>
            <a:r>
              <a:rPr b="0" lang="cs-CZ" sz="1800" spc="-1" strike="noStrike">
                <a:solidFill>
                  <a:srgbClr val="333399"/>
                </a:solidFill>
                <a:latin typeface="Myriad Web"/>
              </a:rPr>
              <a:t>, F</a:t>
            </a: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39000" y="5327640"/>
            <a:ext cx="254448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4880" y="5319720"/>
            <a:ext cx="2624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Electroseparation:</a:t>
            </a:r>
            <a:br>
              <a:rPr sz="1800"/>
            </a:br>
            <a:r>
              <a:rPr b="1" lang="en-GB" sz="1800" spc="-1" strike="noStrike">
                <a:solidFill>
                  <a:srgbClr val="333399"/>
                </a:solidFill>
                <a:latin typeface="Myriad Web"/>
              </a:rPr>
              <a:t>Cathodic de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51600" y="5478480"/>
            <a:ext cx="89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772160" y="5835600"/>
            <a:ext cx="126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492880"/>
            <a:ext cx="1359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impu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91240" y="2979720"/>
            <a:ext cx="12970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6320" y="3073320"/>
            <a:ext cx="1365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Disti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7267680" y="3554280"/>
            <a:ext cx="0" cy="47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275600" y="267012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888320" y="3278160"/>
            <a:ext cx="81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702640" y="3276720"/>
            <a:ext cx="1800" cy="28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773600" y="6110280"/>
            <a:ext cx="392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77160" y="2898720"/>
            <a:ext cx="574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8280" y="3454560"/>
            <a:ext cx="1344600" cy="107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9200" y="3549600"/>
            <a:ext cx="14112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Fuel Processing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336680" y="2941560"/>
            <a:ext cx="0" cy="5256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972800" y="3613320"/>
            <a:ext cx="2390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73640" y="2979720"/>
            <a:ext cx="0" cy="63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4960" y="5008680"/>
            <a:ext cx="8175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Fresh F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47840" y="5018040"/>
            <a:ext cx="5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H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37800" y="4525920"/>
            <a:ext cx="1800" cy="50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600200" y="4525920"/>
            <a:ext cx="1440" cy="50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Myriad Web"/>
              </a:rPr>
              <a:t>Motivation of the work (1)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904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Application of advanced nuclear reactor types for electricity and heat production in the futu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Molten Salt Reactor (MS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Myriad Web"/>
              </a:rPr>
              <a:t>Th-U breeder (electricty + heat production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Myriad Web"/>
              </a:rPr>
              <a:t>TRU burner (electricty + heat + transmutation of TRU elements and LLFP) - MST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Czech national P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&amp;T 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programme for 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spent nuclear fuel treatment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 is focused on development of the </a:t>
            </a:r>
            <a:r>
              <a:rPr b="1" lang="cs-CZ" sz="2400" spc="-1" strike="noStrike">
                <a:solidFill>
                  <a:srgbClr val="000000"/>
                </a:solidFill>
                <a:latin typeface="Myriad Web"/>
              </a:rPr>
              <a:t>Molten Salt Transmutation Reactor (MSTR)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 fuel cycle system with „on-line“ reprocessing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Myriad Web"/>
              </a:rPr>
              <a:t>need of </a:t>
            </a:r>
            <a:r>
              <a:rPr b="1" lang="cs-CZ" sz="2400" spc="-1" strike="noStrike">
                <a:solidFill>
                  <a:srgbClr val="000000"/>
                </a:solidFill>
                <a:latin typeface="Myriad Web"/>
              </a:rPr>
              <a:t>pyrochemical </a:t>
            </a:r>
            <a:r>
              <a:rPr b="1" lang="en-GB" sz="2400" spc="-1" strike="noStrike">
                <a:solidFill>
                  <a:srgbClr val="000000"/>
                </a:solidFill>
                <a:latin typeface="Myriad Web"/>
              </a:rPr>
              <a:t>partitioning proces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49EC-013E-4307-A0A4-8485377A6F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Myriad Web"/>
              </a:rPr>
              <a:t>Motivation of the work (2)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1294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Myriad Web"/>
              </a:rPr>
              <a:t>Pyrochemical partitioning techniques studied in CR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Fluoride Volatility Method (FVM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Electrochemical separation in molten fluorid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"/>
          <p:cNvSpPr/>
          <p:nvPr/>
        </p:nvSpPr>
        <p:spPr>
          <a:xfrm>
            <a:off x="5776920" y="4029120"/>
            <a:ext cx="536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820880" y="4502160"/>
            <a:ext cx="1440" cy="612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2341440" y="4502160"/>
            <a:ext cx="1501920" cy="138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51840" y="30574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8051400" y="4049640"/>
            <a:ext cx="2523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70120" y="3352680"/>
            <a:ext cx="2210040" cy="1228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19880" y="3613320"/>
            <a:ext cx="1620720" cy="87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46040" y="5213520"/>
            <a:ext cx="951120" cy="514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76760" y="4879800"/>
            <a:ext cx="952560" cy="513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17880" y="5702400"/>
            <a:ext cx="1411200" cy="514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12760" y="3622680"/>
            <a:ext cx="1417680" cy="87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08840" y="5114880"/>
            <a:ext cx="1995480" cy="1074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2200" y="3366360"/>
            <a:ext cx="221004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Myriad Web"/>
              </a:rPr>
              <a:t>Liquid Fuel Processing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Pyrochemical partitioning processes (Electrosepa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96120" y="3687480"/>
            <a:ext cx="165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Myriad Web"/>
              </a:rPr>
              <a:t>Molten Salt Transmutation Re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4720" y="5334480"/>
            <a:ext cx="83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Uran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84680" y="4902840"/>
            <a:ext cx="936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Residual Uran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92320" y="3687480"/>
            <a:ext cx="1257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Myriad Web"/>
              </a:rPr>
              <a:t>Fluoride Volatility</a:t>
            </a: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Myriad Web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5170680"/>
            <a:ext cx="1843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Myriad Web"/>
              </a:rPr>
              <a:t>Molten Salt / 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Myriad Web"/>
              </a:rPr>
              <a:t>Liquid Metal Extraction </a:t>
            </a: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and/or</a:t>
            </a:r>
            <a:r>
              <a:rPr b="1" lang="cs-CZ" sz="1600" spc="-1" strike="noStrike">
                <a:solidFill>
                  <a:srgbClr val="000000"/>
                </a:solidFill>
                <a:latin typeface="Myriad Web"/>
              </a:rPr>
              <a:t> Electros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11760" y="5842440"/>
            <a:ext cx="142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Waste dispo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763800"/>
            <a:ext cx="4046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Myriad Web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7246800" y="2998800"/>
            <a:ext cx="287640" cy="396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88360" y="2909880"/>
            <a:ext cx="108000" cy="125280"/>
          </a:xfrm>
          <a:custGeom>
            <a:avLst/>
            <a:gdLst/>
            <a:ahLst/>
            <a:rect l="l" t="t" r="r" b="b"/>
            <a:pathLst>
              <a:path w="75" h="87">
                <a:moveTo>
                  <a:pt x="75" y="0"/>
                </a:moveTo>
                <a:lnTo>
                  <a:pt x="62" y="87"/>
                </a:lnTo>
                <a:lnTo>
                  <a:pt x="0" y="41"/>
                </a:lnTo>
                <a:lnTo>
                  <a:pt x="75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838920" y="3053880"/>
            <a:ext cx="415800" cy="559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33480" y="5737320"/>
            <a:ext cx="662040" cy="191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10160" y="5634000"/>
            <a:ext cx="95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100400"/>
            <a:ext cx="244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03320" y="4043520"/>
            <a:ext cx="109440" cy="110880"/>
          </a:xfrm>
          <a:custGeom>
            <a:avLst/>
            <a:gdLst/>
            <a:ahLst/>
            <a:rect l="l" t="t" r="r" b="b"/>
            <a:pathLst>
              <a:path w="77" h="77">
                <a:moveTo>
                  <a:pt x="77" y="39"/>
                </a:moveTo>
                <a:lnTo>
                  <a:pt x="0" y="77"/>
                </a:lnTo>
                <a:lnTo>
                  <a:pt x="0" y="0"/>
                </a:lnTo>
                <a:lnTo>
                  <a:pt x="77" y="3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21560" y="2824560"/>
            <a:ext cx="99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Spent F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675320" y="3063960"/>
            <a:ext cx="1440" cy="215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9800" y="2515320"/>
            <a:ext cx="1556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Molten Fluoride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Carrier Sal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90520" y="4759560"/>
            <a:ext cx="227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F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00680" y="3724560"/>
            <a:ext cx="61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Pu,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63800" y="4653360"/>
            <a:ext cx="89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Pu,MA,F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95800" y="4653360"/>
            <a:ext cx="61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Pu,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90200" y="4110480"/>
            <a:ext cx="89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Pu,MA,F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9880" y="3764160"/>
            <a:ext cx="102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residual U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66880" y="3502080"/>
            <a:ext cx="111240" cy="111240"/>
          </a:xfrm>
          <a:custGeom>
            <a:avLst/>
            <a:gdLst/>
            <a:ahLst/>
            <a:rect l="l" t="t" r="r" b="b"/>
            <a:pathLst>
              <a:path w="77" h="77">
                <a:moveTo>
                  <a:pt x="39" y="77"/>
                </a:moveTo>
                <a:lnTo>
                  <a:pt x="0" y="0"/>
                </a:lnTo>
                <a:lnTo>
                  <a:pt x="77" y="0"/>
                </a:lnTo>
                <a:lnTo>
                  <a:pt x="39" y="7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57560" y="409896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40160" y="4098960"/>
            <a:ext cx="9190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240" y="4043520"/>
            <a:ext cx="109440" cy="110880"/>
          </a:xfrm>
          <a:custGeom>
            <a:avLst/>
            <a:gdLst/>
            <a:ahLst/>
            <a:rect l="l" t="t" r="r" b="b"/>
            <a:pathLst>
              <a:path w="76" h="77">
                <a:moveTo>
                  <a:pt x="76" y="39"/>
                </a:moveTo>
                <a:lnTo>
                  <a:pt x="0" y="77"/>
                </a:lnTo>
                <a:lnTo>
                  <a:pt x="0" y="0"/>
                </a:lnTo>
                <a:lnTo>
                  <a:pt x="76" y="3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08640" y="3973680"/>
            <a:ext cx="111240" cy="110880"/>
          </a:xfrm>
          <a:custGeom>
            <a:avLst/>
            <a:gdLst/>
            <a:ahLst/>
            <a:rect l="l" t="t" r="r" b="b"/>
            <a:pathLst>
              <a:path w="77" h="77">
                <a:moveTo>
                  <a:pt x="77" y="39"/>
                </a:moveTo>
                <a:lnTo>
                  <a:pt x="0" y="77"/>
                </a:lnTo>
                <a:lnTo>
                  <a:pt x="0" y="0"/>
                </a:lnTo>
                <a:lnTo>
                  <a:pt x="77" y="3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5040" y="4267080"/>
            <a:ext cx="358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97480" y="4211640"/>
            <a:ext cx="111240" cy="111240"/>
          </a:xfrm>
          <a:custGeom>
            <a:avLst/>
            <a:gdLst/>
            <a:ahLst/>
            <a:rect l="l" t="t" r="r" b="b"/>
            <a:pathLst>
              <a:path w="77" h="77">
                <a:moveTo>
                  <a:pt x="77" y="38"/>
                </a:moveTo>
                <a:lnTo>
                  <a:pt x="0" y="77"/>
                </a:lnTo>
                <a:lnTo>
                  <a:pt x="0" y="0"/>
                </a:lnTo>
                <a:lnTo>
                  <a:pt x="77" y="3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86080" y="4768920"/>
            <a:ext cx="111240" cy="110880"/>
          </a:xfrm>
          <a:custGeom>
            <a:avLst/>
            <a:gdLst/>
            <a:ahLst/>
            <a:rect l="l" t="t" r="r" b="b"/>
            <a:pathLst>
              <a:path w="77" h="77">
                <a:moveTo>
                  <a:pt x="39" y="77"/>
                </a:moveTo>
                <a:lnTo>
                  <a:pt x="0" y="0"/>
                </a:lnTo>
                <a:lnTo>
                  <a:pt x="77" y="0"/>
                </a:lnTo>
                <a:lnTo>
                  <a:pt x="39" y="7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0880" y="4795920"/>
            <a:ext cx="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66880" y="5102280"/>
            <a:ext cx="111240" cy="111240"/>
          </a:xfrm>
          <a:custGeom>
            <a:avLst/>
            <a:gdLst/>
            <a:ahLst/>
            <a:rect l="l" t="t" r="r" b="b"/>
            <a:pathLst>
              <a:path w="77" h="77">
                <a:moveTo>
                  <a:pt x="39" y="77"/>
                </a:moveTo>
                <a:lnTo>
                  <a:pt x="0" y="0"/>
                </a:lnTo>
                <a:lnTo>
                  <a:pt x="77" y="0"/>
                </a:lnTo>
                <a:lnTo>
                  <a:pt x="39" y="7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8040" y="4853520"/>
            <a:ext cx="227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F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76400" y="5477400"/>
            <a:ext cx="227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F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18080" y="3211560"/>
            <a:ext cx="111240" cy="109440"/>
          </a:xfrm>
          <a:custGeom>
            <a:avLst/>
            <a:gdLst/>
            <a:ahLst/>
            <a:rect l="l" t="t" r="r" b="b"/>
            <a:pathLst>
              <a:path w="77" h="77">
                <a:moveTo>
                  <a:pt x="39" y="77"/>
                </a:moveTo>
                <a:lnTo>
                  <a:pt x="0" y="0"/>
                </a:lnTo>
                <a:lnTo>
                  <a:pt x="77" y="0"/>
                </a:lnTo>
                <a:lnTo>
                  <a:pt x="39" y="7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45120" y="4575240"/>
            <a:ext cx="0" cy="193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70600" y="4581360"/>
            <a:ext cx="0" cy="1006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95840" y="5840280"/>
            <a:ext cx="115920" cy="117720"/>
          </a:xfrm>
          <a:custGeom>
            <a:avLst/>
            <a:gdLst/>
            <a:ahLst/>
            <a:rect l="l" t="t" r="r" b="b"/>
            <a:pathLst>
              <a:path w="81" h="81">
                <a:moveTo>
                  <a:pt x="81" y="81"/>
                </a:moveTo>
                <a:lnTo>
                  <a:pt x="0" y="54"/>
                </a:lnTo>
                <a:lnTo>
                  <a:pt x="54" y="0"/>
                </a:lnTo>
                <a:lnTo>
                  <a:pt x="81" y="8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29080" y="5877000"/>
            <a:ext cx="122400" cy="104760"/>
          </a:xfrm>
          <a:custGeom>
            <a:avLst/>
            <a:gdLst/>
            <a:ahLst/>
            <a:rect l="l" t="t" r="r" b="b"/>
            <a:pathLst>
              <a:path w="84" h="73">
                <a:moveTo>
                  <a:pt x="0" y="58"/>
                </a:moveTo>
                <a:lnTo>
                  <a:pt x="61" y="0"/>
                </a:lnTo>
                <a:lnTo>
                  <a:pt x="84" y="73"/>
                </a:lnTo>
                <a:lnTo>
                  <a:pt x="0" y="5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13360" y="5587920"/>
            <a:ext cx="111240" cy="111240"/>
          </a:xfrm>
          <a:custGeom>
            <a:avLst/>
            <a:gdLst/>
            <a:ahLst/>
            <a:rect l="l" t="t" r="r" b="b"/>
            <a:pathLst>
              <a:path w="77" h="77">
                <a:moveTo>
                  <a:pt x="39" y="77"/>
                </a:moveTo>
                <a:lnTo>
                  <a:pt x="0" y="0"/>
                </a:lnTo>
                <a:lnTo>
                  <a:pt x="77" y="0"/>
                </a:lnTo>
                <a:lnTo>
                  <a:pt x="39" y="7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07200" y="5573880"/>
            <a:ext cx="111240" cy="109440"/>
          </a:xfrm>
          <a:custGeom>
            <a:avLst/>
            <a:gdLst/>
            <a:ahLst/>
            <a:rect l="l" t="t" r="r" b="b"/>
            <a:pathLst>
              <a:path w="77" h="77">
                <a:moveTo>
                  <a:pt x="0" y="39"/>
                </a:moveTo>
                <a:lnTo>
                  <a:pt x="77" y="0"/>
                </a:lnTo>
                <a:lnTo>
                  <a:pt x="77" y="77"/>
                </a:ln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2320" y="3196800"/>
            <a:ext cx="0" cy="304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302680" y="4043160"/>
            <a:ext cx="0" cy="1600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8280" y="5562720"/>
            <a:ext cx="1587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952960" y="4264200"/>
            <a:ext cx="0" cy="129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562720" y="2743200"/>
            <a:ext cx="37335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potential of electr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red-ox potential of respect 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, W, C – reference, working and counter electr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-28440" y="1028880"/>
          <a:ext cx="7115040" cy="415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440" y="1028880"/>
                    <a:ext cx="7115040" cy="41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183600"/>
            <a:ext cx="84582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yriad Web"/>
              </a:rPr>
              <a:t>Principle of electroseparation method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" y="5257800"/>
            <a:ext cx="8877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sed 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xperimental techniqu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Linear Sweep Potential Cyclic Voltamme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ical scan rate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0 mV·s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working electrode area: c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 c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Myriad Web"/>
              </a:rPr>
              <a:t>Selection of carrier fluoride mel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473040" y="914400"/>
            <a:ext cx="764712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6178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Myriad Web"/>
              </a:rPr>
              <a:t>R</a:t>
            </a:r>
            <a:r>
              <a:rPr b="1" i="1" lang="en-GB" sz="2600" spc="-1" strike="noStrike">
                <a:solidFill>
                  <a:srgbClr val="000000"/>
                </a:solidFill>
                <a:latin typeface="Myriad Web"/>
                <a:ea typeface="Times New Roman"/>
              </a:rPr>
              <a:t>equired properties of </a:t>
            </a:r>
            <a:r>
              <a:rPr b="1" i="1" lang="en-GB" sz="2600" spc="-1" strike="noStrike">
                <a:solidFill>
                  <a:srgbClr val="000000"/>
                </a:solidFill>
                <a:latin typeface="Myriad Web"/>
              </a:rPr>
              <a:t>the </a:t>
            </a:r>
            <a:r>
              <a:rPr b="1" i="1" lang="en-GB" sz="2600" spc="-1" strike="noStrike">
                <a:solidFill>
                  <a:srgbClr val="000000"/>
                </a:solidFill>
                <a:latin typeface="Myriad Web"/>
                <a:ea typeface="Times New Roman"/>
              </a:rPr>
              <a:t>melt</a:t>
            </a:r>
            <a:r>
              <a:rPr b="1" i="1" lang="cs-CZ" sz="2600" spc="-1" strike="noStrike">
                <a:solidFill>
                  <a:srgbClr val="000000"/>
                </a:solidFill>
                <a:latin typeface="Myriad Web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 algn="just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6178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low mel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 algn="just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6178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high solubility of separated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 algn="just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6178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high electrochemical st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 algn="just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6178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satisfactory corrosion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6178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appropriate physical properti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(electrical conductivity, viscosity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6178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good radiating resi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400040"/>
            <a:ext cx="2104920" cy="2767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0720" y="3886200"/>
            <a:ext cx="8514000" cy="31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Myriad Web"/>
                <a:ea typeface="Times New Roman"/>
              </a:rPr>
              <a:t>Selected melt</a:t>
            </a:r>
            <a:r>
              <a:rPr b="1" i="1" lang="en-GB" sz="2600" spc="-1" strike="noStrike">
                <a:solidFill>
                  <a:srgbClr val="000000"/>
                </a:solidFill>
                <a:latin typeface="Myriad Web"/>
              </a:rPr>
              <a:t>s</a:t>
            </a:r>
            <a:r>
              <a:rPr b="1" i="1" lang="cs-CZ" sz="2600" spc="-1" strike="noStrike">
                <a:solidFill>
                  <a:srgbClr val="000000"/>
                </a:solidFill>
                <a:latin typeface="Myriad Web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yriad Web"/>
              </a:rPr>
              <a:t>FLINAK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 – eutectic mixture of </a:t>
            </a:r>
            <a:r>
              <a:rPr b="1" lang="en-GB" sz="2400" spc="-1" strike="noStrike">
                <a:solidFill>
                  <a:srgbClr val="000000"/>
                </a:solidFill>
                <a:latin typeface="Myriad Web"/>
              </a:rPr>
              <a:t>LiF-NaF-KF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(46.5 - 11.5 - 42.0 mol. %), m.p. </a:t>
            </a:r>
            <a:r>
              <a:rPr b="1" lang="en-GB" sz="2400" spc="-1" strike="noStrike">
                <a:solidFill>
                  <a:srgbClr val="000000"/>
                </a:solidFill>
                <a:latin typeface="Myriad Web"/>
              </a:rPr>
              <a:t>454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yriad Web"/>
              </a:rPr>
              <a:t>LiF-CaF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Myriad Web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 – eutectic mixture (79.5 - 20.5 mol. %), m.p. </a:t>
            </a:r>
            <a:r>
              <a:rPr b="1" lang="en-GB" sz="2400" spc="-1" strike="noStrike">
                <a:solidFill>
                  <a:srgbClr val="000000"/>
                </a:solidFill>
                <a:latin typeface="Myriad Web"/>
              </a:rPr>
              <a:t>766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Myriad Web"/>
                <a:ea typeface="Times New Roman"/>
              </a:rPr>
              <a:t>Raw materials treatment</a:t>
            </a:r>
            <a:r>
              <a:rPr b="1" i="1" lang="cs-CZ" sz="2600" spc="-1" strike="noStrike">
                <a:solidFill>
                  <a:srgbClr val="000000"/>
                </a:solidFill>
                <a:latin typeface="Myriad Web"/>
              </a:rPr>
              <a:t>:</a:t>
            </a:r>
            <a:br>
              <a:rPr sz="2600"/>
            </a:b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Desiccation in vacuum drying oven at 60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90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150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–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250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068720" y="4043520"/>
            <a:ext cx="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59040" y="3413160"/>
            <a:ext cx="2611440" cy="701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57600" y="3377160"/>
            <a:ext cx="26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Myriad Web"/>
              </a:rPr>
              <a:t>Scan generator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Myriad Web"/>
              </a:rPr>
              <a:t>MVS 9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16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Myriad Web"/>
              </a:rPr>
              <a:t>Experimental set-up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6008760" y="1255680"/>
            <a:ext cx="2370240" cy="475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960" y="2490840"/>
            <a:ext cx="1917720" cy="123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2720" y="4492800"/>
            <a:ext cx="1630440" cy="1439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0240" y="4566240"/>
            <a:ext cx="1571760" cy="127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Myriad Web"/>
              </a:rPr>
              <a:t>KPCI 3102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Myriad Web"/>
              </a:rPr>
              <a:t>Keithl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Myriad Web"/>
              </a:rPr>
              <a:t>(2 D/A’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71440" y="3720960"/>
            <a:ext cx="0" cy="771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04880" y="3720960"/>
            <a:ext cx="0" cy="771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59040" y="2490840"/>
            <a:ext cx="2611440" cy="9223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44680" y="3024360"/>
            <a:ext cx="412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57600" y="4319640"/>
            <a:ext cx="2612880" cy="91440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57600" y="5234040"/>
            <a:ext cx="2612880" cy="770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57600" y="5226480"/>
            <a:ext cx="26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Myriad Web"/>
              </a:rPr>
              <a:t>Potentiostat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Myriad Web"/>
              </a:rPr>
              <a:t>HP 96 - 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43160" y="5030640"/>
            <a:ext cx="51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43160" y="4737240"/>
            <a:ext cx="514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4492800"/>
            <a:ext cx="619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70480" y="5030640"/>
            <a:ext cx="619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70480" y="4756320"/>
            <a:ext cx="619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4168800"/>
            <a:ext cx="3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4713120"/>
            <a:ext cx="3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6080" y="1320840"/>
            <a:ext cx="548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Nickel electrolyser providing inert atmosphere in the electrochemical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65880" y="4462560"/>
            <a:ext cx="403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_1" descr=""/>
          <p:cNvPicPr/>
          <p:nvPr/>
        </p:nvPicPr>
        <p:blipFill>
          <a:blip r:embed="rId1"/>
          <a:srcRect l="0" t="7014" r="0" b="0"/>
          <a:stretch/>
        </p:blipFill>
        <p:spPr>
          <a:xfrm>
            <a:off x="762120" y="1805040"/>
            <a:ext cx="1309680" cy="4581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209680" y="5019840"/>
            <a:ext cx="128268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250" y="15544"/>
                </a:moveTo>
                <a:lnTo>
                  <a:pt x="-1283" y="3433"/>
                </a:lnTo>
              </a:path>
            </a:pathLst>
          </a:custGeom>
          <a:solidFill>
            <a:srgbClr val="fcfc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yriad Web"/>
              </a:rPr>
              <a:t>Boron nitride main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19400" y="5813280"/>
            <a:ext cx="1361880" cy="57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832" y="17872"/>
                </a:moveTo>
                <a:lnTo>
                  <a:pt x="-1208" y="4261"/>
                </a:lnTo>
              </a:path>
            </a:pathLst>
          </a:custGeom>
          <a:solidFill>
            <a:srgbClr val="fcfc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yriad Web"/>
              </a:rPr>
              <a:t>Capillar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Myriad Web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Myriad Web"/>
                <a:ea typeface="Times New Roman"/>
              </a:rPr>
              <a:t>Ø</a:t>
            </a:r>
            <a:r>
              <a:rPr b="0" lang="en-GB" sz="1800" spc="-1" strike="noStrike">
                <a:solidFill>
                  <a:srgbClr val="000000"/>
                </a:solidFill>
                <a:latin typeface="Myriad Web"/>
              </a:rPr>
              <a:t> 0.1 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63680" y="4156200"/>
            <a:ext cx="1212840" cy="76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18" y="34443"/>
                </a:moveTo>
                <a:lnTo>
                  <a:pt x="-1357" y="3233"/>
                </a:lnTo>
              </a:path>
            </a:pathLst>
          </a:custGeom>
          <a:solidFill>
            <a:srgbClr val="fcfc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yriad Web"/>
              </a:rPr>
              <a:t>Carrier melt + NiF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Myriad Web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66920" y="3041640"/>
            <a:ext cx="1198440" cy="55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648" y="37861"/>
                </a:moveTo>
                <a:lnTo>
                  <a:pt x="-1373" y="4418"/>
                </a:lnTo>
              </a:path>
            </a:pathLst>
          </a:custGeom>
          <a:solidFill>
            <a:srgbClr val="fcfc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yriad Web"/>
              </a:rPr>
              <a:t>Nickel 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63680" y="3719520"/>
            <a:ext cx="1211400" cy="34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94" y="46700"/>
                </a:moveTo>
                <a:lnTo>
                  <a:pt x="-1359" y="7200"/>
                </a:lnTo>
              </a:path>
            </a:pathLst>
          </a:custGeom>
          <a:solidFill>
            <a:srgbClr val="fcfc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yriad Web"/>
              </a:rPr>
              <a:t>Nickel n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70160" y="2538360"/>
            <a:ext cx="1211400" cy="32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947" y="-42459"/>
                </a:moveTo>
                <a:lnTo>
                  <a:pt x="-1359" y="7624"/>
                </a:lnTo>
              </a:path>
            </a:pathLst>
          </a:custGeom>
          <a:solidFill>
            <a:srgbClr val="fcfc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yriad Web"/>
              </a:rPr>
              <a:t>Hol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RE_2" descr=""/>
          <p:cNvPicPr/>
          <p:nvPr/>
        </p:nvPicPr>
        <p:blipFill>
          <a:blip r:embed="rId2"/>
          <a:srcRect l="0" t="6948" r="0" b="0"/>
          <a:stretch/>
        </p:blipFill>
        <p:spPr>
          <a:xfrm>
            <a:off x="3706920" y="1776240"/>
            <a:ext cx="1611360" cy="4584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 flipV="1">
            <a:off x="3632040" y="5935680"/>
            <a:ext cx="78912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513240" y="5133960"/>
            <a:ext cx="761760" cy="37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506760" y="4582800"/>
            <a:ext cx="844560" cy="71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519360" y="3760920"/>
            <a:ext cx="849600" cy="65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506760" y="3073320"/>
            <a:ext cx="951120" cy="75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487680" y="1886040"/>
            <a:ext cx="1276560" cy="78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493800" y="2677680"/>
            <a:ext cx="110628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452240" y="2671920"/>
            <a:ext cx="75708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70440" y="1768320"/>
            <a:ext cx="2863800" cy="46324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120" y="135720"/>
            <a:ext cx="891540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Myriad Web"/>
              </a:rPr>
              <a:t>Reference electrode for electrochemical measurement in molten fluoride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Myriad Web"/>
              </a:rPr>
              <a:t>Carrier melt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"/>
          <p:cNvSpPr/>
          <p:nvPr/>
        </p:nvSpPr>
        <p:spPr>
          <a:xfrm>
            <a:off x="281160" y="1219320"/>
            <a:ext cx="85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Myriad Web"/>
              </a:rPr>
              <a:t>Comparison of voltammograms of pure melts FLINAK </a:t>
            </a:r>
            <a:r>
              <a:rPr b="1" lang="en-GB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r>
              <a:rPr b="0" lang="en-GB" sz="2600" spc="-1" strike="noStrike">
                <a:solidFill>
                  <a:srgbClr val="000000"/>
                </a:solidFill>
                <a:latin typeface="Myriad Web"/>
              </a:rPr>
              <a:t> and</a:t>
            </a:r>
            <a:r>
              <a:rPr b="0" lang="cs-CZ" sz="2600" spc="-1" strike="noStrike">
                <a:solidFill>
                  <a:srgbClr val="000000"/>
                </a:solidFill>
                <a:latin typeface="Myriad Web"/>
              </a:rPr>
              <a:t> in</a:t>
            </a:r>
            <a:r>
              <a:rPr b="0" lang="en-GB" sz="2600" spc="-1" strike="noStrike">
                <a:solidFill>
                  <a:srgbClr val="000000"/>
                </a:solidFill>
                <a:latin typeface="Myriad Web"/>
              </a:rPr>
              <a:t> LiF – CaF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Myriad Web"/>
              </a:rPr>
              <a:t>2 </a:t>
            </a:r>
            <a:r>
              <a:rPr b="1" lang="en-GB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r>
              <a:rPr b="1" lang="cs-CZ" sz="2600" spc="-1" strike="noStrike">
                <a:solidFill>
                  <a:srgbClr val="000000"/>
                </a:solidFill>
                <a:latin typeface="Myriad Web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43000" y="2209680"/>
            <a:ext cx="4286160" cy="4219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624560" y="2209680"/>
            <a:ext cx="4276440" cy="4219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55600" y="2558880"/>
            <a:ext cx="4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24560" y="25588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06920" y="2247840"/>
            <a:ext cx="4295880" cy="42292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47640"/>
            <a:ext cx="7772400" cy="7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Myriad Web"/>
              </a:rPr>
              <a:t>UF</a:t>
            </a:r>
            <a:r>
              <a:rPr b="1" lang="en-GB" sz="3600" spc="-1" strike="noStrike" baseline="-25000">
                <a:solidFill>
                  <a:srgbClr val="cc0000"/>
                </a:solidFill>
                <a:latin typeface="Myriad Web"/>
              </a:rPr>
              <a:t>4</a:t>
            </a:r>
            <a:r>
              <a:rPr b="1" lang="en-GB" sz="3600" spc="-1" strike="noStrike">
                <a:solidFill>
                  <a:srgbClr val="cc0000"/>
                </a:solidFill>
                <a:latin typeface="Myriad Web"/>
              </a:rPr>
              <a:t> </a:t>
            </a:r>
            <a:r>
              <a:rPr b="1" lang="cs-CZ" sz="3600" spc="-1" strike="noStrike">
                <a:solidFill>
                  <a:srgbClr val="cc0000"/>
                </a:solidFill>
                <a:latin typeface="Myriad Web"/>
              </a:rPr>
              <a:t>in </a:t>
            </a:r>
            <a:r>
              <a:rPr b="1" lang="en-GB" sz="3600" spc="-1" strike="noStrike">
                <a:solidFill>
                  <a:srgbClr val="cc0000"/>
                </a:solidFill>
                <a:latin typeface="Myriad Web"/>
              </a:rPr>
              <a:t>FLINAK </a:t>
            </a:r>
            <a:r>
              <a:rPr b="1" lang="cs-CZ" sz="3600" spc="-1" strike="noStrike">
                <a:solidFill>
                  <a:srgbClr val="cc0000"/>
                </a:solidFill>
                <a:latin typeface="Myriad Web"/>
              </a:rPr>
              <a:t>and in LiF-CaF</a:t>
            </a:r>
            <a:r>
              <a:rPr b="1" lang="cs-CZ" sz="3600" spc="-1" strike="noStrike" baseline="-25000">
                <a:solidFill>
                  <a:srgbClr val="cc0000"/>
                </a:solidFill>
                <a:latin typeface="Myriad Web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28600" y="2247840"/>
            <a:ext cx="4286160" cy="4229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95240" y="1295280"/>
            <a:ext cx="75517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Myriad Web"/>
              </a:rPr>
              <a:t>Comparison of </a:t>
            </a:r>
            <a:r>
              <a:rPr b="0" lang="en-GB" sz="2600" spc="-1" strike="noStrike">
                <a:solidFill>
                  <a:srgbClr val="000000"/>
                </a:solidFill>
                <a:latin typeface="Myriad Web"/>
              </a:rPr>
              <a:t>UF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Myriad Web"/>
              </a:rPr>
              <a:t>4</a:t>
            </a:r>
            <a:r>
              <a:rPr b="0" lang="en-GB" sz="2600" spc="-1" strike="noStrike">
                <a:solidFill>
                  <a:srgbClr val="000000"/>
                </a:solidFill>
                <a:latin typeface="Myriad Web"/>
              </a:rPr>
              <a:t> (1.0 mol. %) </a:t>
            </a:r>
            <a:r>
              <a:rPr b="0" lang="cs-CZ" sz="2600" spc="-1" strike="noStrike">
                <a:solidFill>
                  <a:srgbClr val="000000"/>
                </a:solidFill>
                <a:latin typeface="Myriad Web"/>
              </a:rPr>
              <a:t>v</a:t>
            </a:r>
            <a:r>
              <a:rPr b="0" lang="en-GB" sz="2600" spc="-1" strike="noStrike">
                <a:solidFill>
                  <a:srgbClr val="000000"/>
                </a:solidFill>
                <a:latin typeface="Myriad Web"/>
              </a:rPr>
              <a:t>oltammograms in FLINAK</a:t>
            </a:r>
            <a:r>
              <a:rPr b="0" lang="cs-CZ" sz="26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r>
              <a:rPr b="0" lang="cs-CZ" sz="2600" spc="-1" strike="noStrike">
                <a:solidFill>
                  <a:srgbClr val="000000"/>
                </a:solidFill>
                <a:latin typeface="Myriad Web"/>
              </a:rPr>
              <a:t> and LiF – CaF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Myriad Web"/>
              </a:rPr>
              <a:t>2 </a:t>
            </a:r>
            <a:r>
              <a:rPr b="1" lang="en-GB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000" y="2558880"/>
            <a:ext cx="4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24560" y="25588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11:00:00Z</dcterms:created>
  <dc:creator>Ing. Radka Tuláčková</dc:creator>
  <dc:description/>
  <dc:language>en-US</dc:language>
  <cp:lastModifiedBy>auditorium</cp:lastModifiedBy>
  <dcterms:modified xsi:type="dcterms:W3CDTF">2004-11-09T21:02:31Z</dcterms:modified>
  <cp:revision>45</cp:revision>
  <dc:subject/>
  <dc:title>Development of electrochemical separation of actinides and lanthanides in the frame of the Czech P&amp;T programme</dc:title>
</cp:coreProperties>
</file>